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2EA-DB4D-4D62-A223-FF022758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2C2-FFA9-45DB-83B4-2418F834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CF9-FDF8-4484-AC92-683BD3D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4C8-1E7A-41CA-ADD9-E2851F37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3A8F-DDE3-493A-84D0-6335DCC9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F368-37E9-4F84-A53F-BF317A95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DCCC-5CBD-4905-9290-105ABBD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9B94-0C8B-4CD4-B517-108D124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C1B2-512D-4F64-AE76-FF93AB0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5E05-3ED7-4EED-9C9E-51283B6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EBAC-EB20-4C25-8422-319CDCC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480-EFCD-4F24-9CBC-C0EFA97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5A3-B4D4-43C1-923F-46A88F5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701-4063-47A6-B783-9139CAC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606-9190-4115-8EB7-4560564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69C-167A-4B7B-91DD-70C094EC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68C-E2BF-42F8-9718-611262BA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75CF-1D54-4845-B780-78EA388A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B50D-39C1-4E26-AFBC-4E65CF3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E846-7B96-4EA5-A86C-EA315C1D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CEEE-5DB2-48D3-BFA4-8AF2F43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8BBF-B2E9-45ED-8326-523F220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BEC-55B6-4B53-B094-FD18DA4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646F-54CA-4121-BDCD-458B6551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A097-C179-493F-B63A-93F13896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6DD2-5235-4B64-AE78-BD4F2CE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E0DE-F76C-47F5-9482-9CAB0B02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86DF-7757-461F-A838-BAC3D7C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49D6-62F1-421F-86EB-3CC5DFA7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D037-8066-48EC-84D1-DD870A9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649-5BFE-4E87-A559-7B53BFBC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898-B89E-426D-B5EC-996AB949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DAD-8279-43D9-8AD0-48BAF2D3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D9A-3F1B-4AD0-9A64-B8A39C6C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9FD-C5C8-4F9B-9917-B4CED99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1AD-BD5D-4646-BE29-69263D6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6433-6E55-4E19-98B7-196EA131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CEB7-40F7-4CFB-ADED-C07814A6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0343-DC0A-4A5C-864E-2DB575B08B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кулaриз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нерв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горњ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стрeм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3527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Fovea rad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361960" y="404640"/>
            <a:ext cx="56386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Анатомска бурмут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Садржај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a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Границе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латерално – te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abduct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brevis-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медијално –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e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но – os scaphoideum 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s trapez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оре– processus styloid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ra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Боч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recurren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palm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dorsa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metacarpea dorsalis pr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princeps pollic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rc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3"/>
          <p:cNvSpPr txBox="1"/>
          <p:nvPr/>
        </p:nvSpPr>
        <p:spPr>
          <a:xfrm>
            <a:off x="1523880" y="76320"/>
            <a:ext cx="6191280" cy="107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Arial Black"/>
              </a:rPr>
              <a:t>A. ULNARIS</a:t>
            </a:r>
            <a:endParaRPr b="0" i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1447920"/>
            <a:ext cx="857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ulnar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унутрашњим делом предње стране подлак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пределу корена шаке пролази кроз унутрашњи канал ручј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(canalis carpi unaris)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, праћен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v. ulnare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. ulanar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нутрашњи канал ручја анлази се површније од унутрашњег дела карпалног </a:t>
            </a:r>
            <a:br>
              <a:rPr sz="1800"/>
            </a:b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тун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7493" t="0" r="37870" b="38588"/>
          <a:stretch/>
        </p:blipFill>
        <p:spPr>
          <a:xfrm>
            <a:off x="3733920" y="3200400"/>
            <a:ext cx="4263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5212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Бочне гране a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recurrens ulnaris ant et 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interossea commu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palm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вршне гране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palmari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sr-CS" sz="24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cus palmari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CUS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S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ulnar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superficialis a.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S пројектује се 5mm изн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Boeckel линије (доња ивица палца kад 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oн у абдукциј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- 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aa.digitales palmares communes-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деле се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aa.digitales palmares propriae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деле се на мале гране за II и III чла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RCUS PALMARIS PROFUNDUS - APP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3818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P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radial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profundus a.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P пројектује се 1цм изнад површног дланског лу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. aa. metacarpeae palmar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rr.perforan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rr.recu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TE CUBITI – 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 граде    нисходне бочне гране A.BRACH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сходне гране A.RADIALIS и A.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:      A.profunda brachii (бочна грана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superior (бочна гр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inferior (бочна гр a.brach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radialis (бочна гр a.rad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an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pos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interossea recurrens (бочна гр a.ulna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Comic Sans MS"/>
              </a:rPr>
              <a:t>ВЕНЕ ГОРЊЕГ ЕКСТРЕМИТ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249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Дубоке вене     (парне су и носе исте називе kaо артерије уз које с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                 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приљубљен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Palma manus: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arcus venos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Antebrachium:</a:t>
            </a:r>
            <a:r>
              <a:rPr b="1" i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ul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rad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Brachium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brach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Fossa axillaris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. axillaris-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- VA се наставља у v.subclavia koја 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спаја са v.jugularis interna-om и гр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brahiocepha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human01_61"/>
          <p:cNvPicPr/>
          <p:nvPr/>
        </p:nvPicPr>
        <p:blipFill>
          <a:blip r:embed="rId1"/>
          <a:stretch/>
        </p:blipFill>
        <p:spPr>
          <a:xfrm>
            <a:off x="5292720" y="3213000"/>
            <a:ext cx="364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VENAE SUPERFICIALES MEMBRI SUPERIO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Rete venosum dorsale manus настај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 cephalica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(спољ стр подлакта,sulcus bicipitalis lateralis,sulcuсdeltoideopectoralis, kроз fasci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clavicopectoralis, укршта a.axillaris, улива се 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у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v.axillari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basilica </a:t>
            </a:r>
            <a:r>
              <a:rPr b="1" lang="sr-Latn-CS" sz="1800" spc="-1" strike="noStrike">
                <a:solidFill>
                  <a:srgbClr val="00ffff"/>
                </a:solidFill>
                <a:latin typeface="Arial"/>
              </a:rPr>
              <a:t>(унутр део предњ стр подлакта,sulcus bicipitalis medialis,кроз hiatus basilicus на fasciji надлакта,улива се у vv.brachiale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Arcus venosus palmaris superficialis наста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- v. mediana antebrachi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– VMA (средином подлакта ид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о је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MA малог калибра улива се у v.medianu cubi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o je VMA добро развијена у лакту се дели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basilica (унутр гр) </a:t>
            </a:r>
            <a:r>
              <a:rPr b="0" i="1" lang="sr-CS" sz="18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cephalica (спољ г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 –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eмбрионални тип анастомозе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N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cubit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poprečno spaja dva glavna venska su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I – класични тип анастомозе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M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antebrachii се дели на две гране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 mediana cephalica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et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v. mediana basilica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8640720" y="1268280"/>
            <a:ext cx="503280" cy="1130400"/>
          </a:xfrm>
          <a:custGeom>
            <a:avLst/>
            <a:gdLst>
              <a:gd name="textAreaLeft" fmla="*/ 0 w 503280"/>
              <a:gd name="textAreaRight" fmla="*/ 181800 w 503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361960" y="-227160"/>
            <a:ext cx="5567400" cy="68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SUBCLA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costa prima </a:t>
            </a:r>
            <a:r>
              <a:rPr b="0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– спољња ивица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m. teres major – доња ив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Toпографски де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a. axillaris пр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m.pectoralis min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ре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остпекторални-најдужи део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УВОД У НЕУРОЛОГИЈ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Systema nervosum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главни контролни и интегративни центар те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регулише рад свих органа и усклађује њихове функциј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ашњом средином подешавајући реакције организма на надражаје из спољашње средине (синдром адаптациј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заједно са ендокриним системом успоставља савршену равнотежу у унутрашњој средини организма (хомеостаза)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cc00"/>
                </a:solidFill>
                <a:latin typeface="Arial"/>
              </a:rPr>
              <a:t>Основне функције нервног сист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Сензо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гиструју се промене у телу и спољашњој сред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Интегратив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маче се проме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ото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након тумачења oдговара се koнтролисаном мишићном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онтракцијом или секрецијом жл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рфолошка и топографска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дела нервног система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64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Systema nervosum cent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централни нервни систем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Medulla spin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dula oblong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s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ros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di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telencephalon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.cereb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35280" y="1125000"/>
            <a:ext cx="3995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cc00"/>
                </a:solidFill>
                <a:latin typeface="Arial"/>
              </a:rPr>
              <a:t>Systema nervosum peripher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(периферни нервни сист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sp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cran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0000"/>
                </a:solidFill>
                <a:latin typeface="Arial"/>
              </a:rPr>
              <a:t>Функционалн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подела нервног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956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Соматски (aнимал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њом средин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Прима спољње надражаје и реагује на њ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под утицајем воље и 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Вегетативни (aутоном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з садејство ендокриних</a:t>
            </a: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жлезда, регулише све битне функције унутрашњих орг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(дисање, варење, рад срц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рвних судова, метаболиза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без утицаја вољ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SYMPATH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PARASYMPAT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PLEXUS BRACHIA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r. anteriores nn. cervicales V-VIII   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. anterior n. thoracici I    (C5, C6, C7, C8, Th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00005a"/>
          <p:cNvPicPr/>
          <p:nvPr/>
        </p:nvPicPr>
        <p:blipFill>
          <a:blip r:embed="rId1"/>
          <a:stretch/>
        </p:blipFill>
        <p:spPr>
          <a:xfrm>
            <a:off x="1908000" y="2133720"/>
            <a:ext cx="5616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PLEXUS BRACHIALIS P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настаје од предњих гра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C5,6,7,8 живаца и већег дела Th1 живц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C5 i C6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SUP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редња грана C7 живца д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MEDI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пајањем предњих грана C8 i Th1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ако стабло (трункус) дели се на предњу и задњу гра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truncus superior i truncus mediusa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LATER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а грана truncus inferiora гради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MEDI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задњих грана сва три трункус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POS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днос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 pl.brachialis-a –P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По свом настанку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фасцикулуси су смештени иза почетног дела a.axillaris, a затим се распоређују са свих страна ове артериј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и снопови се у висини доње-спољње ивиц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m.pectoralis minor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еле на своје завршне гра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5 i C6 спиналних живаца добијају симпатичка влакна 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редњег вратног ганглио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(ganglion cervicale mediu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6,C7 i C8 спиналних живаца добијају симпатичка влакна из доњег вратног ганглиона (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ganglion cervicale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или из ganglion stellatu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Th1 i Th2 спиналних живаца добијају симпатичка влакна из стабла грудног симпатику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Пут plexus brachialis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у врату PB лежи у 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igonum colli laterale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где преко њега леже кож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platizma, дубока фасција, a.transversa colli, v.jugularis exter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n.supraclaviculares, и доњи трбух омохиоидног мишић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 трункуси избијају на површину између предњег и средњег скаленског мишића (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spatium interscalenum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а изнад a.subclavia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пролази испод клавилуле и испред m.subscapularis-a и улазе у пазушну ја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Duchenne-Erb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прегибача и пронатора руке) настаје повредом C5 i C6 живц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Klumpke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опружача и супинатора руке) наста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овредом C6,C7,C8 i Th1 жив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Arial"/>
              </a:rPr>
              <a:t>Гран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Боч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dorsalis scapu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icu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pra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clav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o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4956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Заврш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later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medi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brachi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axillaris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859280" y="836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inf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24000" y="83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sup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553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later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medi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cutaneus brachi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axillari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MUSCULOCUTANEUS  N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lateralis-a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код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доње ивице m.pectoralis major-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е NMS доводе д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Губитка способности флексије подлак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Отежане супинације по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MS инервише:    a. моторно: m.biceps brachi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m.coracobrachialis, m.brachial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Сензитивно: зглоб лакта и рамен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вршна грана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n. cutaneus antebrachi lateralis (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 кожу спољашњег</a:t>
            </a:r>
            <a:br>
              <a:rPr sz="2000"/>
            </a:b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                                     дела подлак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0492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</a:t>
            </a: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MEDIANUS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752480"/>
            <a:ext cx="899172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настаје из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lateralis n.mediani fasciculus lateralisa </a:t>
            </a:r>
            <a:r>
              <a:rPr b="0" lang="sr-CS" sz="18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medialis n.mediani fasciculus mediali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oви коренови се спајају у NM на предњој или спољњој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рани a.axilla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у надлакту пролази кроз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ulcus bicipitalis med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, пратећи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. brach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и налази </a:t>
            </a:r>
            <a:br>
              <a:rPr sz="1800"/>
            </a:b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се споља од ње, док у доњем делу подлакта прелази на њену унутрашњу стр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лакатној јами NM je површан, лежи на m.brach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покривен је кожом и биципиталном апонеурозом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иде предњом страном подлаката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alis carpalis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лази у шак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ели се на завршне г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3610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N. MEDIA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Моторне(мишић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нервишу све мишиће предње групе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подлакта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 flexor carpi ulnaris-a 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унутрашње половине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. flexor digitorum profundus-a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eminentiae thenaris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adductor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pollicis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,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interosseu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brachii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Сензитивне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 (кож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. palmaris n. 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n. digitales palmares communes (I-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sr-Latn-CS" sz="3600" spc="-1" strike="noStrike">
                <a:solidFill>
                  <a:srgbClr val="ffcc00"/>
                </a:solidFill>
                <a:latin typeface="Arial"/>
              </a:rPr>
              <a:t>N.ulnaris 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fasciculus medialisa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пазушној јами NU се налази између a.axillaris и v.axill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kроз надлак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NU иде кроз sulcus bicipitalis medialis, унутра од a.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NU затим пролази кроз 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sulcus n.ulnaris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на задњој страни унутрашњ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епикондила humerus-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пролази кроз </a:t>
            </a:r>
            <a:r>
              <a:rPr b="1" lang="sr-CS" sz="2400" spc="-1" strike="noStrike">
                <a:solidFill>
                  <a:srgbClr val="ffcc00"/>
                </a:solidFill>
                <a:latin typeface="Arial"/>
              </a:rPr>
              <a:t>унутрашњи канал ручја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се завршава у висини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os pisifo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50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Бочне гране</a:t>
            </a:r>
            <a:r>
              <a:rPr b="1" i="1" lang="sr-Latn-C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n. ulnaris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( у подлак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моторна)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 - за 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. flexor carpi ulnaris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унутрашњу половину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m. flexor digitorum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dorsalis n. ulnaris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palmaris n. ulnaris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218960" y="549000"/>
            <a:ext cx="7543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Завршне гране n.</a:t>
            </a: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ulnaris-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моторна грана за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зa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m. рalmaris brev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n. digitalis palmaris communis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(kожна гра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Све мишиће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hypothenar-a (изузев m. palmaris brevi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Све интеросеалне мишић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II, IV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m. adductor pollic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Бочне гране a. axillar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supr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oacromialis-AT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 гр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AT su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r. deltoideus; r. acromialis;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r. clavicularis; r.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ectoralis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subscapularis -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завршне гране AS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thoracodors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circumflexa scapulae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triangul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posterior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quadrilater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N.AXILLARIS 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iz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ossae axillar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излази кроз foramen quadrilaterum, заједно 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circumflexa humeri posteri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A обилази око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хирушког врата раменице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 покривен m.deltoideus-ом  даје гране за зглоб рамена и после тога се дели на: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Предњу гра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. Задњу грану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моторно инервише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deltoideus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teres mi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а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 N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оводи 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Отежане абдукције и спољње ротације надлакт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Губитка сензибилитета у пределу делтастог мишића и спољње</a:t>
            </a:r>
            <a:br>
              <a:rPr sz="2000"/>
            </a:b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тране на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Latn-CS" sz="5400" spc="-1" strike="noStrike">
                <a:solidFill>
                  <a:srgbClr val="ffcc00"/>
                </a:solidFill>
                <a:latin typeface="Arial"/>
              </a:rPr>
              <a:t>N.radialis N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од 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азушној јами налази се иза a.axilar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надлакту NR прати a.brachialis, иде кроз sul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.radialis на задњој страни humerusa,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једно с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  a.profunda bra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ределу предње стране спољ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шњег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епикондила хумеруса 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дели се на завршне гране површну и дубоку (r.superficiali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r.profund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NR има две завршне гране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a.површна</a:t>
            </a: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убока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(мотор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Моторно инервиш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надлакта</a:t>
            </a:r>
            <a:br>
              <a:rPr sz="2400"/>
            </a:b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спољаш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Бочне гране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NR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post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lateralis inf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antebrachi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(сензитивне гра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PB 28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PB 23a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6408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72072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до доње ив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. teres major-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A. BRACH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к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роз sulcus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bicipit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лакатне ја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(fossa cubita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НЕ Г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  <a:ea typeface="Arial"/>
              </a:rPr>
              <a:t>у висин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colum rad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68360" y="907920"/>
            <a:ext cx="142920" cy="792360"/>
          </a:xfrm>
          <a:prstGeom prst="downArrow">
            <a:avLst>
              <a:gd name="adj1" fmla="val 50000"/>
              <a:gd name="adj2" fmla="val 13860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2362320" y="2362320"/>
            <a:ext cx="142920" cy="792000"/>
          </a:xfrm>
          <a:prstGeom prst="downArrow">
            <a:avLst>
              <a:gd name="adj1" fmla="val 50000"/>
              <a:gd name="adj2" fmla="val 13853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286000" y="4114800"/>
            <a:ext cx="142920" cy="720720"/>
          </a:xfrm>
          <a:prstGeom prst="downArrow">
            <a:avLst>
              <a:gd name="adj1" fmla="val 50000"/>
              <a:gd name="adj2" fmla="val 12607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B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TAL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 MEDI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– S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границе СБ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поља и напред:  m.coraco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. biceps brachi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нутра:                   humer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оз СБM пролазе:      a.brachialis, vv.brachiales, n.medianus, n.uln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brachii med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antebrachii med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*сви ови eлементи су обавијени фасцијама и одвој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д суседних мишића и кости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7745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Бочне гране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profunda brach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971800" y="228600"/>
            <a:ext cx="30733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А. RADIALIS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35680" y="1676520"/>
            <a:ext cx="8539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спољашњим делом предње стране подлакта; у горњем де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длата покривена ј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barchioradial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доњем делу подлакта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љ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brachio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унутр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flexor carpi 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дно: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pronator quadr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том артерија скреће упоље и позади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vea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прел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 дорзалну старну ша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9:00:52Z</dcterms:created>
  <dc:creator>Dejan</dc:creator>
  <dc:description/>
  <dc:language>en-US</dc:language>
  <cp:lastModifiedBy>Vista</cp:lastModifiedBy>
  <dcterms:modified xsi:type="dcterms:W3CDTF">2014-07-25T01:12:13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